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4D7A4-7230-460F-AB16-BD923758C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B7F6A-58E8-447D-AE99-4BFD153FC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41451-8D11-42DE-A6A4-008900C8B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E3636-B6EF-4425-AFCB-D91E752F4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5D3C3-7706-4BE2-BEE6-E31ECE705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E8053-8877-4E82-8C47-D303EC361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2C759-FA7B-495C-B106-7A7D86571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2155D-6AFE-4D51-866D-C87567C4E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802D8-61E3-469D-95E1-26196C752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68390-ADF1-4A6D-A9C3-35071FCD7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FB4DA-7058-4275-85FE-CDA9B68EA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AEFA7-323A-4EB3-BD3C-602555D93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310E5-4D36-4E4F-9E72-7AE2C69E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159B5-126F-456F-9A07-0395DD216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905C1-5D92-42D3-8DBC-32359C196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9C166-331F-46DE-B8B7-6A313236B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6AFDF-E84F-41DB-A094-85F559894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D08CE16-1082-41A5-882F-F50F8125F1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102457-155D-4421-BB3A-B2BC0AC95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C6D8CB-9EAC-41E9-BB42-DABCAB81B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203ED2-3725-4586-AF83-D80E7C5E1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CB247E-01F4-4492-A845-83935409D9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B6019-5F23-45F5-BE8A-6707D6C75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25D634-2FDD-4762-8A8E-88FB457A0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FC6F57-4C3D-4752-BBBC-BF2117CE9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9924F5-DBE7-4DE0-973D-2BA630199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609DAE-CDD9-48A9-BD8A-7FFC10702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48814C-5707-4CC6-8163-C915AD4AE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2B3791A-68F9-4DB7-8BE2-F4300B4B33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3235A4-E4BA-4614-AED3-A54A66FC6A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AD2FA9C-6D8C-4096-B80E-E3DFDF0098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6F2005-85F6-4DA1-9667-2896E8B3B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9CD3756-E944-40EE-9BA0-510E3793C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7E923-8761-47B5-B011-3A9E085C4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0E898B-F44C-403B-8BBE-D67AC0A02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B8FD44-3CB5-4A12-BF03-00146EF46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EC2C779-38E4-401B-B3BD-AB7AC1D65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0FABAE-7A80-46FF-8C1C-5A78C48F7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744F3F-DA5C-42AB-8605-2A352FE57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0AD549-EA00-4A43-8B8C-67C18C773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14BC26-6AC6-4486-853C-0E34D16D3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CD04485-419B-40D4-B235-F4B405C63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E4C4646-1CCA-423D-88AC-FE539FB3F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9933B4-EBC5-4A5F-99F5-F1D2E6D07F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7E42E-C41A-41FA-9BB8-903D8BE1F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70EFD0-E0D6-43E6-A01B-F14587519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E2C3ECD-B715-4118-997B-73D035DD6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63841A-9548-4C89-A52B-B1C9C0E18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8B4056-D1C5-423D-B3BD-FD8DCCCDD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F6A9D3-1A3C-4176-9D47-31C4CD1C8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1AE23F-E203-44E9-B504-EF954A9EC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48E46E-43F2-46B0-B75D-F1D2933DE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820452-AF83-4FCF-A7AB-82D6FA20C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D58637-4BF7-4C9B-A345-88DC3E443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5FE9B3-AC52-4584-BCF3-D7ACD7DF9B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373EE-2FDC-4CA6-AFF0-2B5DD562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1F5455D-7C22-4E47-A605-283842446E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9678F3-7F1A-4F84-9702-85B7B59C4E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86932F-7168-4A84-B92A-747EA338EB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922F03-C577-4C37-AD3D-EA9C01ACC7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4FABBA-FCDF-4CA2-8186-5759C1AB08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DE95EA-7ED4-4BF2-B57B-CFDD1964F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C7085-3754-4E01-9154-AB7303580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2D730-8DD2-4DE5-B3B8-1AFC20AA5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038A2-E674-4371-9813-93DFE8397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52D8A-A2BF-481D-8AAE-921DF72E3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AA17C-0A06-4CB6-846D-6AB6E3DA6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F57E74-19BA-43E3-8FEC-01113C0AED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E6D9F5-1611-4502-9C10-BC82698A27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26878F-4CE6-4058-A3D4-96FA3D7347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A9A72ED-D264-4963-A503-998AB332EA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D61A10-7D1E-4689-BE85-A4A3EDF25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30CDEF-6409-4447-AC29-BAA84CDAC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C3D361-50BF-461C-9B1D-C07435A31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A37D2B-C2D0-41B4-8302-9AAD143F24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914AAC5-050E-428B-9878-73EC07407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28ED09-2771-4FB3-A14B-F2E9B5C97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AABE-248D-429F-835D-0C6DEFA99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31DCA8-5AF9-4D36-A376-371C597D2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3538FB-17BA-4287-9D61-87AC253F0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14DF9BF-6533-45C3-A136-A58521E6CD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5CC1686-5288-4B07-AB12-658A631B4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8F27509-8F3C-4B10-A70E-E0F1F33467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733D34-2CD3-488C-9019-5F080DEC4B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99DDA7-E311-46A4-B19D-7FF154EA80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65CD63-3B99-4D86-B0D0-676CCAB90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2DA10-F251-4F79-9542-6609A33DD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D0E234-F359-4FA5-8465-793C7CEEDF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878D-9C6C-4E0B-89D1-BDF0E4F4D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54459-B542-482F-823C-66ABBC624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96566-F343-47E0-8BA5-89FF610776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87105-C19C-41A5-9B3C-3917341A27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AB182-D4B8-49BC-A0C4-5B7762EEC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E34631-632C-45A4-8A49-B34EB80E1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61FD11-6533-4D0C-94E6-8E1BBC0C51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DBEA62-0B33-42E6-B283-75393917EB3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5BFD-3DEA-4A29-AB2A-1C0E65A826A8}"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23E9-37F2-45DB-B36B-C90E56F1F23F}" type="slidenum">
              <a:rPr b="1" lang="en-GB"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4D67-F511-4B42-8656-1F9C0A27C058}" type="slidenum">
              <a:rPr b="1" lang="en-GB"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F3DA-F62F-4261-9789-56D79E4389B1}"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2188-D07E-4CE2-985F-5948F350AB10}"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AA44-F3EF-4298-B0DE-5146D5B33242}" type="slidenum">
              <a:rPr b="1" lang="en-GB"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080F-56EC-40B9-829F-2BE658352D08}" type="slidenum">
              <a:rPr b="1" lang="en-GB"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051A-7C84-4BE5-941F-B79D214941CC}" type="slidenum">
              <a:rPr b="1" lang="en-GB"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jca_p_3FcWA&amp;feature=related"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195280" y="259920"/>
            <a:ext cx="5105160" cy="20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ba79d"/>
                </a:solidFill>
                <a:latin typeface="Tw Cen MT"/>
              </a:rPr>
              <a:t>EXPECTATIONS AND THE HALO EFFECT</a:t>
            </a:r>
            <a:endParaRPr b="0" lang="en-US" sz="4400" spc="-1" strike="noStrike">
              <a:solidFill>
                <a:srgbClr val="ebddc3"/>
              </a:solidFill>
              <a:latin typeface="Tw Cen MT"/>
            </a:endParaRPr>
          </a:p>
        </p:txBody>
      </p:sp>
      <p:pic>
        <p:nvPicPr>
          <p:cNvPr id="351" name="Picture 2" descr="http://www.relationship-economy.com/wp-content/uploads/2009/02/social_media_clutter-300x298.jpg"/>
          <p:cNvPicPr/>
          <p:nvPr/>
        </p:nvPicPr>
        <p:blipFill>
          <a:blip r:embed="rId1"/>
          <a:stretch/>
        </p:blipFill>
        <p:spPr>
          <a:xfrm>
            <a:off x="3203640" y="2781360"/>
            <a:ext cx="2857320" cy="28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775f55"/>
                </a:solidFill>
                <a:latin typeface="Tw Cen MT"/>
              </a:rPr>
              <a:t>Dion et al (1972) What is Beautiful is Good</a:t>
            </a:r>
            <a:br>
              <a:rPr sz="4000"/>
            </a:br>
            <a:endParaRPr b="0" lang="en-US" sz="3600" spc="-1" strike="noStrike">
              <a:solidFill>
                <a:srgbClr val="775f55"/>
              </a:solidFill>
              <a:latin typeface="Tw Cen MT"/>
            </a:endParaRPr>
          </a:p>
        </p:txBody>
      </p:sp>
      <p:sp>
        <p:nvSpPr>
          <p:cNvPr id="37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500" spc="-1" strike="noStrike">
                <a:solidFill>
                  <a:srgbClr val="000000"/>
                </a:solidFill>
                <a:latin typeface="Tw Cen MT"/>
              </a:rPr>
              <a:t>Participants presented with photographs of individuals which had been separately rated for attractiveness</a:t>
            </a:r>
            <a:endParaRPr b="0" lang="en-US" sz="2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500" spc="-1" strike="noStrike">
                <a:solidFill>
                  <a:srgbClr val="000000"/>
                </a:solidFill>
                <a:latin typeface="Tw Cen MT"/>
              </a:rPr>
              <a:t>They were asked to predict whether these individuals would live happy or fulfilling lives by the likelihood that they would experience a variety of life experiences (such as becoming divorced)</a:t>
            </a:r>
            <a:endParaRPr b="0" lang="en-US" sz="2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500" spc="-1" strike="noStrike">
                <a:solidFill>
                  <a:srgbClr val="000000"/>
                </a:solidFill>
                <a:latin typeface="Tw Cen MT"/>
              </a:rPr>
              <a:t>Consistent with the halo effect, the more attractive individuals were more frequently judged to have more positive personality traits and more likely to experience positive life event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The Task for Today</a:t>
            </a: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8153280" cy="4525920"/>
          </a:xfrm>
          <a:prstGeom prst="rect">
            <a:avLst/>
          </a:prstGeom>
          <a:noFill/>
          <a:ln w="0">
            <a:noFill/>
          </a:ln>
        </p:spPr>
        <p:txBody>
          <a:bodyPr anchor="t">
            <a:normAutofit fontScale="98000"/>
          </a:bodyPr>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w Cen MT"/>
              </a:rPr>
              <a:t>Produce a representation of the halo effect</a:t>
            </a:r>
            <a:endParaRPr b="0" lang="en-US" sz="2800" spc="-1" strike="noStrike">
              <a:solidFill>
                <a:srgbClr val="000000"/>
              </a:solidFill>
              <a:latin typeface="Tw Cen MT"/>
            </a:endParaRPr>
          </a:p>
          <a:p>
            <a:pPr lvl="1" marL="626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26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w Cen MT"/>
              </a:rPr>
              <a:t>For Example:</a:t>
            </a:r>
            <a:endParaRPr b="0" lang="en-US" sz="24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Design an experiment which shows the halo effect</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Describe or produce a representation of your own experience of the halo effect</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Write a newspaper article</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Create a video which shows the halo effect in action</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Carry out a role play of the halo effect</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How does the halo effect influence wider issues e.g racism, marketing (apple), employment, job interviews or first impressions</a:t>
            </a:r>
            <a:endParaRPr b="0" lang="en-US" sz="2000" spc="-1" strike="noStrike">
              <a:solidFill>
                <a:srgbClr val="000000"/>
              </a:solidFill>
              <a:latin typeface="Tw Cen MT"/>
            </a:endParaRPr>
          </a:p>
          <a:p>
            <a:pPr lvl="1" marL="626760" indent="-2671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w Cen MT"/>
              </a:rPr>
              <a:t>A biography of a famous person e.g. Michael Jackson</a:t>
            </a:r>
            <a:endParaRPr b="0" lang="en-US" sz="2000" spc="-1" strike="noStrike">
              <a:solidFill>
                <a:srgbClr val="000000"/>
              </a:solidFill>
              <a:latin typeface="Tw Cen MT"/>
            </a:endParaRPr>
          </a:p>
          <a:p>
            <a:pPr marL="312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2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2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360"/>
            <a:ext cx="81835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Expectations</a:t>
            </a:r>
            <a:endParaRPr b="0" lang="en-US" sz="4400" spc="-1" strike="noStrike">
              <a:solidFill>
                <a:srgbClr val="775f55"/>
              </a:solidFill>
              <a:latin typeface="Tw Cen MT"/>
            </a:endParaRPr>
          </a:p>
        </p:txBody>
      </p:sp>
      <p:sp>
        <p:nvSpPr>
          <p:cNvPr id="353" name=""/>
          <p:cNvSpPr txBox="1"/>
          <p:nvPr/>
        </p:nvSpPr>
        <p:spPr>
          <a:xfrm>
            <a:off x="395280" y="1483920"/>
            <a:ext cx="8183520" cy="469260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n expectation is a strong belief that something will happen or be the case in the future</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xpectations can often be unrealistic and can lead to disappointment</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Different people can have different expectations about the same event, for example at an ice hockey match some supporters might expect Timrå to win the game whereas others would expect MODO to wi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775f55"/>
                </a:solidFill>
                <a:latin typeface="Tw Cen MT"/>
              </a:rPr>
              <a:t>Where Do Expectations Come From?</a:t>
            </a:r>
            <a:endParaRPr b="0" lang="en-US" sz="4000" spc="-1" strike="noStrike">
              <a:solidFill>
                <a:srgbClr val="775f55"/>
              </a:solidFill>
              <a:latin typeface="Tw Cen MT"/>
            </a:endParaRPr>
          </a:p>
        </p:txBody>
      </p:sp>
      <p:sp>
        <p:nvSpPr>
          <p:cNvPr id="35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Our past experiences</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Media</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Society </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amily</a:t>
            </a:r>
            <a:endParaRPr b="0" lang="en-US" sz="2900" spc="-1" strike="noStrike">
              <a:solidFill>
                <a:srgbClr val="000000"/>
              </a:solidFill>
              <a:latin typeface="Tw Cen MT"/>
            </a:endParaRPr>
          </a:p>
        </p:txBody>
      </p:sp>
      <p:pic>
        <p:nvPicPr>
          <p:cNvPr id="356" name="Picture 5" descr="You-Dont-Go-On-Facebook-For-A-Week-Expectations-Reality"/>
          <p:cNvPicPr/>
          <p:nvPr/>
        </p:nvPicPr>
        <p:blipFill>
          <a:blip r:embed="rId1"/>
          <a:stretch/>
        </p:blipFill>
        <p:spPr>
          <a:xfrm>
            <a:off x="4140360" y="2349360"/>
            <a:ext cx="4176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Nannie Doss</a:t>
            </a:r>
            <a:endParaRPr b="0" lang="en-US" sz="4000" spc="-1" strike="noStrike">
              <a:solidFill>
                <a:srgbClr val="775f55"/>
              </a:solidFill>
              <a:latin typeface="Tw Cen MT"/>
            </a:endParaRPr>
          </a:p>
        </p:txBody>
      </p:sp>
      <p:sp>
        <p:nvSpPr>
          <p:cNvPr id="358" name=""/>
          <p:cNvSpPr txBox="1"/>
          <p:nvPr/>
        </p:nvSpPr>
        <p:spPr>
          <a:xfrm>
            <a:off x="468360" y="1484280"/>
            <a:ext cx="8153280" cy="51847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Serial Killer responsible for the deaths of eleven people between the 1920s and 1954</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It was revealed that she had killed four husbands,  two children, two sisters, her mother, a grandson and a nephew</a:t>
            </a:r>
            <a:endParaRPr b="0" lang="en-US" sz="2900" spc="-1" strike="noStrike">
              <a:solidFill>
                <a:srgbClr val="000000"/>
              </a:solidFill>
              <a:latin typeface="Tw Cen MT"/>
            </a:endParaRPr>
          </a:p>
        </p:txBody>
      </p:sp>
      <p:pic>
        <p:nvPicPr>
          <p:cNvPr id="359" name="Picture 4" descr="tumblr_l547ziXZUj1qzwer3"/>
          <p:cNvPicPr/>
          <p:nvPr/>
        </p:nvPicPr>
        <p:blipFill>
          <a:blip r:embed="rId1"/>
          <a:stretch/>
        </p:blipFill>
        <p:spPr>
          <a:xfrm>
            <a:off x="2843280" y="1557360"/>
            <a:ext cx="2736720" cy="25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8">
                                            <p:txEl>
                                              <p:pRg st="5" end="5"/>
                                            </p:txEl>
                                          </p:spTgt>
                                        </p:tgtEl>
                                        <p:attrNameLst>
                                          <p:attrName>style.visibility</p:attrName>
                                        </p:attrNameLst>
                                      </p:cBhvr>
                                      <p:to>
                                        <p:strVal val="visible"/>
                                      </p:to>
                                    </p:set>
                                    <p:anim calcmode="lin" valueType="num">
                                      <p:cBhvr additive="base">
                                        <p:cTn id="7" dur="5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8">
                                            <p:txEl>
                                              <p:pRg st="6" end="6"/>
                                            </p:txEl>
                                          </p:spTgt>
                                        </p:tgtEl>
                                        <p:attrNameLst>
                                          <p:attrName>style.visibility</p:attrName>
                                        </p:attrNameLst>
                                      </p:cBhvr>
                                      <p:to>
                                        <p:strVal val="visible"/>
                                      </p:to>
                                    </p:set>
                                    <p:anim calcmode="lin" valueType="num">
                                      <p:cBhvr additive="base">
                                        <p:cTn id="13" dur="5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John Ausonius</a:t>
            </a: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997520"/>
          </a:xfrm>
          <a:prstGeom prst="rect">
            <a:avLst/>
          </a:prstGeom>
          <a:noFill/>
          <a:ln w="0">
            <a:noFill/>
          </a:ln>
        </p:spPr>
        <p:txBody>
          <a:bodyPr anchor="t">
            <a:normAutofit/>
          </a:bodyPr>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Swedish convicted murderer, bank robber and attempted serial kill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rom August 1991 to January 1992 he shot eleven people in the Stockholm and Upsalla area, killing one person and seriously injuring the others</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2" name="Picture 5" descr="250px-John_Ausonius"/>
          <p:cNvPicPr/>
          <p:nvPr/>
        </p:nvPicPr>
        <p:blipFill>
          <a:blip r:embed="rId1"/>
          <a:stretch/>
        </p:blipFill>
        <p:spPr>
          <a:xfrm>
            <a:off x="2916360" y="1700280"/>
            <a:ext cx="2808000" cy="2016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61">
                                            <p:txEl>
                                              <p:pRg st="4" end="4"/>
                                            </p:txEl>
                                          </p:spTgt>
                                        </p:tgtEl>
                                        <p:attrNameLst>
                                          <p:attrName>style.visibility</p:attrName>
                                        </p:attrNameLst>
                                      </p:cBhvr>
                                      <p:to>
                                        <p:strVal val="visible"/>
                                      </p:to>
                                    </p:set>
                                    <p:anim calcmode="lin" valueType="num">
                                      <p:cBhvr additive="base">
                                        <p:cTn id="21"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1">
                                            <p:txEl>
                                              <p:pRg st="5" end="5"/>
                                            </p:txEl>
                                          </p:spTgt>
                                        </p:tgtEl>
                                        <p:attrNameLst>
                                          <p:attrName>style.visibility</p:attrName>
                                        </p:attrNameLst>
                                      </p:cBhvr>
                                      <p:to>
                                        <p:strVal val="visible"/>
                                      </p:to>
                                    </p:set>
                                    <p:anim calcmode="lin" valueType="num">
                                      <p:cBhvr additive="base">
                                        <p:cTn id="27" dur="500" fill="hold"/>
                                        <p:tgtEl>
                                          <p:spTgt spid="361">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1280" y="259920"/>
            <a:ext cx="81532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Susan Boyle</a:t>
            </a:r>
            <a:endParaRPr b="0" lang="en-US" sz="4400" spc="-1" strike="noStrike">
              <a:solidFill>
                <a:srgbClr val="775f55"/>
              </a:solidFill>
              <a:latin typeface="Tw Cen MT"/>
            </a:endParaRPr>
          </a:p>
        </p:txBody>
      </p:sp>
      <p:sp>
        <p:nvSpPr>
          <p:cNvPr id="364"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u="sng">
                <a:solidFill>
                  <a:srgbClr val="f7b615"/>
                </a:solidFill>
                <a:uFillTx/>
                <a:latin typeface="Tw Cen MT"/>
                <a:hlinkClick r:id="rId1"/>
              </a:rPr>
              <a:t>http://www.youtube.com/watch?v=jca_p_3FcWA&amp;feature=related</a:t>
            </a:r>
            <a:endParaRPr b="0" lang="en-US" sz="3700" spc="-1" strike="noStrike">
              <a:solidFill>
                <a:srgbClr val="000000"/>
              </a:solidFill>
              <a:latin typeface="Tw Cen MT"/>
            </a:endParaRPr>
          </a:p>
        </p:txBody>
      </p:sp>
      <p:pic>
        <p:nvPicPr>
          <p:cNvPr id="365" name="Picture 5" descr="susan-boyle336"/>
          <p:cNvPicPr/>
          <p:nvPr/>
        </p:nvPicPr>
        <p:blipFill>
          <a:blip r:embed="rId2"/>
          <a:stretch/>
        </p:blipFill>
        <p:spPr>
          <a:xfrm>
            <a:off x="3276720" y="1700280"/>
            <a:ext cx="2881080" cy="295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The Halo Effect</a:t>
            </a:r>
            <a:endParaRPr b="0" lang="en-US" sz="4400" spc="-1" strike="noStrike">
              <a:solidFill>
                <a:srgbClr val="775f55"/>
              </a:solidFill>
              <a:latin typeface="Tw Cen MT"/>
            </a:endParaRPr>
          </a:p>
        </p:txBody>
      </p:sp>
      <p:sp>
        <p:nvSpPr>
          <p:cNvPr id="367" name="PlaceHolder 2"/>
          <p:cNvSpPr>
            <a:spLocks noGrp="1"/>
          </p:cNvSpPr>
          <p:nvPr>
            <p:ph/>
          </p:nvPr>
        </p:nvSpPr>
        <p:spPr>
          <a:xfrm>
            <a:off x="539280" y="1483920"/>
            <a:ext cx="8153640" cy="50007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The Halo effect is where the perception of one trait influences the perception of other traits in a person or objec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or example judging an attractive person as kinder and more intellig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Or a brand as more appealing due to one popular product</a:t>
            </a: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7" descr="MacHaloWeb"/>
          <p:cNvPicPr/>
          <p:nvPr/>
        </p:nvPicPr>
        <p:blipFill>
          <a:blip r:embed="rId1"/>
          <a:stretch/>
        </p:blipFill>
        <p:spPr>
          <a:xfrm>
            <a:off x="3708360" y="4724280"/>
            <a:ext cx="1905120" cy="16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775f55"/>
                </a:solidFill>
                <a:latin typeface="Tw Cen MT"/>
              </a:rPr>
              <a:t>The Reverse Halo Effect</a:t>
            </a:r>
            <a:endParaRPr b="0" lang="en-US" sz="4400" spc="-1" strike="noStrike">
              <a:solidFill>
                <a:srgbClr val="775f55"/>
              </a:solidFill>
              <a:latin typeface="Tw Cen MT"/>
            </a:endParaRPr>
          </a:p>
        </p:txBody>
      </p:sp>
      <p:sp>
        <p:nvSpPr>
          <p:cNvPr id="37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This is where individuals, brands etc are judged to be undesirable as a result of a single undesirable trai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For example judging a less attractive person as less intelligent and less talent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900" spc="-1" strike="noStrike">
                <a:solidFill>
                  <a:srgbClr val="000000"/>
                </a:solidFill>
                <a:latin typeface="Tw Cen MT"/>
              </a:rPr>
              <a:t>E.g. Susan Boy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775f55"/>
                </a:solidFill>
                <a:latin typeface="Tw Cen MT"/>
              </a:rPr>
              <a:t>Nisbett and Wilson (1977) Likeability of Lecturers</a:t>
            </a:r>
            <a:endParaRPr b="0" lang="en-US" sz="3200" spc="-1" strike="noStrike">
              <a:solidFill>
                <a:srgbClr val="775f55"/>
              </a:solidFill>
              <a:latin typeface="Tw Cen MT"/>
            </a:endParaRPr>
          </a:p>
        </p:txBody>
      </p:sp>
      <p:sp>
        <p:nvSpPr>
          <p:cNvPr id="372" name="PlaceHolder 2"/>
          <p:cNvSpPr>
            <a:spLocks noGrp="1"/>
          </p:cNvSpPr>
          <p:nvPr>
            <p:ph/>
          </p:nvPr>
        </p:nvSpPr>
        <p:spPr>
          <a:xfrm>
            <a:off x="612720" y="1600200"/>
            <a:ext cx="8153280" cy="4525920"/>
          </a:xfrm>
          <a:prstGeom prst="rect">
            <a:avLst/>
          </a:prstGeom>
          <a:noFill/>
          <a:ln w="0">
            <a:noFill/>
          </a:ln>
        </p:spPr>
        <p:txBody>
          <a:bodyPr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w Cen MT"/>
              </a:rPr>
              <a:t>They wanted to examine the way students made judgements about a lecturer</a:t>
            </a:r>
            <a:endParaRPr b="0" lang="en-US" sz="28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w Cen MT"/>
              </a:rPr>
              <a:t>Two groups of students watched a video of a lecturer with a strong Belgian accent answer a series of questions in a warm friendly manner vs a cold distant manner. They were then asked to rate the lecturer on his accent, attractiveness and mannerisms</a:t>
            </a:r>
            <a:endParaRPr b="0" lang="en-US" sz="28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w Cen MT"/>
              </a:rPr>
              <a:t>Consistent with the Halo Effect, students who saw the warm incarnation of the lecturer rated him more attractive, his mannerisms more likeable and his accent more appealing</a:t>
            </a:r>
            <a:endParaRPr b="0" lang="en-US" sz="2800" spc="-1" strike="noStrike">
              <a:solidFill>
                <a:srgbClr val="000000"/>
              </a:solidFill>
              <a:latin typeface="Tw Cen MT"/>
            </a:endParaRPr>
          </a:p>
          <a:p>
            <a:pPr marL="29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9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2:47:11Z</dcterms:created>
  <dc:creator> </dc:creator>
  <dc:description/>
  <dc:language>en-US</dc:language>
  <cp:lastModifiedBy> </cp:lastModifiedBy>
  <dcterms:modified xsi:type="dcterms:W3CDTF">2011-12-07T20:45:32Z</dcterms:modified>
  <cp:revision>47</cp:revision>
  <dc:subject/>
  <dc:title>Expectations and the Halo Effect</dc:title>
</cp:coreProperties>
</file>